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065-FD4A-461F-A38B-23ADE135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4C37-420B-4D50-BF5C-86332818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445-2965-401B-B4D4-723D9A98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82C-F544-4B60-9730-B3BA29DC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7F8-D8F7-4800-AA42-30170190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639-72A7-4596-BDBE-3FD86F5D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C88-F728-4EB4-98FA-6A8B5345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CC8-901F-40AA-94E1-52ED6830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26B-E3C9-42EC-A33A-82D9827A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55A-005F-4CB5-9D68-F1DB0B6E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B56-221B-4568-8256-9F9686ED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C4E-5518-4C15-8CF9-E73ACF55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2BB1-EC26-4354-8057-94E25C470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Science 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elco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room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qualit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use numbers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nventions (spelling, punctuation, sentences, paragrap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4338680000[1]"/>
          <p:cNvPicPr/>
          <p:nvPr/>
        </p:nvPicPr>
        <p:blipFill>
          <a:blip r:embed="rId1"/>
          <a:stretch/>
        </p:blipFill>
        <p:spPr>
          <a:xfrm>
            <a:off x="3886200" y="990720"/>
            <a:ext cx="5105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quired Supp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green duo-tangs (Notebook, Journal, Lab Not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harpened penc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cray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sharp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Un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, Tissue, Orga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and use clas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ist the “7 Characteristics of Living Thing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not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parts of  “7 Characteristics of Living Thing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9:38:08Z</dcterms:created>
  <dc:creator>nbdoe</dc:creator>
  <dc:description/>
  <dc:language>en-US</dc:language>
  <cp:lastModifiedBy>ladmin</cp:lastModifiedBy>
  <dcterms:modified xsi:type="dcterms:W3CDTF">2015-01-26T02:05:12Z</dcterms:modified>
  <cp:revision>25</cp:revision>
  <dc:subject/>
  <dc:title>Slide 1</dc:title>
</cp:coreProperties>
</file>